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wmf" ContentType="image/x-wmf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495C-89A1-4475-94C4-B004B9105F0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4CD6-EB38-4ACA-BD52-D0EFD3BD214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參考資料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中國城市摩天大樓排行排名城市及座數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香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；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上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；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名：深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甚麼玻璃幕牆大廈會引發光污染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玻璃幕牆會反射大量光線（</a:t>
            </a:r>
            <a:r>
              <a:rPr b="0" lang="zh-TW" sz="1200" spc="-1" strike="noStrike">
                <a:solidFill>
                  <a:srgbClr val="ff0000"/>
                </a:solidFill>
                <a:latin typeface="Calibri"/>
              </a:rPr>
              <a:t>陽光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或燈光），令在附近工作或居住的市民、駕駛者，容易感到眼睛疲勞、頭痛、胸悶氣短等症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些玻璃幕牆是必需的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是不必要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甚麼業主要如此設計外牆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業主希望能用玻璃幕牆來增加外觀的吸引力及提升國際形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挑戰題：但是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玻璃幕牆不是能善用自然光，是環保建築的主要建材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建築師挑選玻璃時會考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因素：隔熱度、隔光度和反光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現在開始流行使用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隔熱度高，而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 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陽光的熱量會被隔去，但只會反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陽光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%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可以射進室內。這便代表室內的空間可以有足夠的陽光照明，而不會有陽光的熱量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–e  glass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便將光和熱分隔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‧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所以，如要減低光污染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玻璃幕牆大廈所選用的便要是反光度低的玻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http://blog.yahoo.com/_NWKFEU6E5JTQT7UQYTGZWRGY4I/articles/93143/category/%E5%BB%BA%E7%AF%89%E9%81%8A%E8%A8%98-%E7%92%B0%E4%BF%9D%E5%BB%BA%E7%AF%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F934-D8B2-48BD-8F16-7719023F372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從資料可見港人的用電模式如何？請加以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大部分住戶表示他們經常或間中「為了令生活舒適，不介意多用些耗電量較高的電器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83.0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「不會計較用電量及電費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76.0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。反映港人的 用電模式屬浪費型，為了方便，不介意浪費電力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根據上述資料，我們能推算港人在照明方面的能源消耗模式，也是為生活舒適、重視方便為主。節能意識薄弱是導致光污染愈來愈嚴重的因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5640-B670-461F-88A1-71169B48D77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單位之差便相等於大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倍光度差，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個單位之差相等於整整一百倍的光度差。旺角、灣仔鬧市的夜空，夜空光度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，市區的平均值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，西貢萬宜水庫東壩、大嶼山南部水口的夜空亮度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等每平方角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1ED-BF10-403D-B71E-84448460A19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D3E5-EF51-4695-B44A-2684E86094F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年香港夜空光度分佈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港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位工作人員利用「夜空光度測量錶」，在本港多處同時搜集夜空光度數據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個月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結果：按排列，紅色代表最光，黑色最暗，如此類推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200" spc="-1" strike="noStrike">
                <a:solidFill>
                  <a:srgbClr val="000000"/>
                </a:solidFill>
                <a:latin typeface="Calibri"/>
              </a:rPr>
              <a:t>甚麼是都市化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由郊區社會模式轉化至城市發展的過程。在這個過程中，人口不斷從郊區流向城市。居住在城市的人口比例越高，都市化的程度就越高。而都市化程度越高，光污染的程度亦越嚴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A46-D44A-4224-81B7-9E34E9375BD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段短片諷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地球之友諷刺中環部分名店在深夜大開照明，由於深夜無人，質疑燈光是否方便鬼魂逛街，因為鬼魂是正常人用肉眼看不到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這些通宵照明是必需的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是，因沒有途人，燈光起不了任何作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19BA-4E56-4C92-8E25-2EC32F95FB9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83EB-9FB2-4325-B9AF-03A40E4291B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經濟考慮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商店通宵宣傳，以賺取更多金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重視方便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方便工作、娛樂、生活，但很多時候光線不但充足，而且過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欠缺環保意識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論是政府、私人機構、個人用電，不需用燈時也不習慣關燈，反而讓燈長開，虛耗電力、能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4895-101E-4A1F-91B3-ECCB9E823A8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buClr>
                <a:srgbClr val="95373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953735"/>
                </a:solidFill>
                <a:latin typeface="Calibri"/>
              </a:rPr>
              <a:t>這路燈的設計正確嗎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53735"/>
                </a:solidFill>
                <a:latin typeface="Calibri"/>
              </a:rPr>
              <a:t>圖一路燈太接近民居，晚上亮著影響居民休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953735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953735"/>
                </a:solidFill>
                <a:latin typeface="Calibri"/>
              </a:rPr>
              <a:t>圖二燈膽射向水平線以上位置，令燈光錯誤散溢在天空上，而非照在地上，供人照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b050"/>
                </a:solidFill>
                <a:latin typeface="Calibri"/>
              </a:rPr>
              <a:t>怎樣才能令路燈的照明更有效率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加入不透明的燈罩（圖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b05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燈膽照射的角度應在水平線或以下（圖</a:t>
            </a:r>
            <a:r>
              <a:rPr b="0" lang="en-US" sz="12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0" lang="zh-TW" sz="1200" spc="-1" strike="noStrike">
                <a:solidFill>
                  <a:srgbClr val="00b050"/>
                </a:solidFill>
                <a:latin typeface="Calibri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F2A-2DE7-458F-8911-256AD21601F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片段指，除了加設燈罩外，在安裝電燈時，還需注意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泡的亮度（顯色性）及高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恰當的安裝有甚麼作用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恰當的安裝有助提升照明的果效，減少耗電及減低光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F5B2-A164-445C-983F-7E6B8FAB36F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6637-89DC-4FB0-836A-F77B1466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CFF-0E54-4B01-AE35-6778CF86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2D0-24D2-40C2-8211-A2FFBA12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613-A117-440D-980F-6EAB76B0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02A-922E-4C7B-AD30-18891643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82CF-B6E6-419B-945F-F2F44547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7EC4-164F-42AF-8B38-2F7346AF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E74-FC07-4518-953D-F1F2E3FA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3E7-1F34-4176-88B1-00120FD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4B9-3561-4654-A50E-102076D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71D-7A22-4E43-BECF-BA5BC38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653-4F71-459D-A9B5-FC00C5A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DEC3-9E36-4BF3-B79A-C95634EC4B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e.org.hk/welcome/gettc.asp?language=tc&amp;id_path=1,%207,%2026,%202453,%203672,%203673,%203963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foe.org.hk/welcome/gettc.asp?language=tc&amp;id_path=1,%207,%2026,%202453,%203672,%203673,%20396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pbsV6vsguc&amp;feature=related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課節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光污染與我（二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F38-0AE2-4B47-B5B7-95B47872BC20}" type="slidenum">
              <a:rPr b="0" lang="zh-TW" sz="1200" spc="-1" strike="noStrike">
                <a:solidFill>
                  <a:srgbClr val="898989"/>
                </a:solidFill>
                <a:latin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0" y="6207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立法會環境事務委員會 （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tr-TR" sz="1200" spc="-1" strike="noStrike">
                <a:solidFill>
                  <a:srgbClr val="000000"/>
                </a:solidFill>
                <a:latin typeface="Calibri"/>
              </a:rPr>
              <a:t>http://www.epd.gov.hk/epd/tc_chi/news_events/legco/files/EA_Panel_110328b_ch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20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考考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642600"/>
            <a:ext cx="91440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你知道一盞照射角度高於水平線的小燈的射程有多遠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Calibri"/>
              </a:rPr>
              <a:t>多於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00</a:t>
            </a:r>
            <a:r>
              <a:rPr b="1" lang="zh-TW" sz="2800" spc="-1" strike="noStrike">
                <a:solidFill>
                  <a:srgbClr val="ff0000"/>
                </a:solidFill>
                <a:latin typeface="Calibri"/>
              </a:rPr>
              <a:t>公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資料一：戶外燈光裝置的各類影響的圖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1437" t="28364" r="911" b="0"/>
          <a:stretch/>
        </p:blipFill>
        <p:spPr>
          <a:xfrm>
            <a:off x="468360" y="2077920"/>
            <a:ext cx="8280360" cy="4183200"/>
          </a:xfrm>
          <a:prstGeom prst="rect">
            <a:avLst/>
          </a:prstGeom>
          <a:ln w="0">
            <a:noFill/>
          </a:ln>
        </p:spPr>
      </p:pic>
      <p:sp>
        <p:nvSpPr>
          <p:cNvPr id="148" name="文字方塊 12"/>
          <p:cNvSpPr/>
          <p:nvPr/>
        </p:nvSpPr>
        <p:spPr>
          <a:xfrm>
            <a:off x="-36360" y="2364840"/>
            <a:ext cx="9180360" cy="387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6-08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年有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28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宗路燈投訴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，只改善了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9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09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年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的光滋擾投訴比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08</a:t>
            </a: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年</a:t>
            </a:r>
            <a:r>
              <a:rPr b="1" lang="zh-TW" sz="4000" spc="-1" strike="noStrike">
                <a:solidFill>
                  <a:srgbClr val="ff7c80"/>
                </a:solidFill>
                <a:latin typeface="Calibri"/>
              </a:rPr>
              <a:t>增加</a:t>
            </a:r>
            <a:r>
              <a:rPr b="1" lang="en-US" sz="4000" spc="-1" strike="noStrike">
                <a:solidFill>
                  <a:srgbClr val="ff7c80"/>
                </a:solidFill>
                <a:latin typeface="Calibri"/>
              </a:rPr>
              <a:t>8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為甚麼會這樣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000080" y="1839600"/>
            <a:ext cx="7101000" cy="4907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Arial"/>
              </a:rPr>
              <a:t>欠缺法例監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FC3E-BC4F-44F5-98B6-67D4309C4E7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65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玻璃幕牆大廈的增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07560"/>
            <a:ext cx="884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玻璃幕牆大廈會引發光污染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這些玻璃幕牆是必需的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業主要如此設計外牆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048200" y="2919240"/>
            <a:ext cx="4741920" cy="35420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0" y="2421000"/>
            <a:ext cx="9144000" cy="2775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未有自覺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欠法例監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ABCC-615B-4B83-851D-FE461330148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1"/>
          <p:cNvGrpSpPr/>
          <p:nvPr/>
        </p:nvGrpSpPr>
        <p:grpSpPr>
          <a:xfrm>
            <a:off x="755640" y="2133720"/>
            <a:ext cx="7272360" cy="4384440"/>
            <a:chOff x="755640" y="2133720"/>
            <a:chExt cx="7272360" cy="4384440"/>
          </a:xfrm>
        </p:grpSpPr>
        <p:pic>
          <p:nvPicPr>
            <p:cNvPr id="159" name="Picture 9" descr="D:\Temp\Temporary Internet Files\Content.IE5\RLX6TVFQ\MC900434411[1].wmf"/>
            <p:cNvPicPr/>
            <p:nvPr/>
          </p:nvPicPr>
          <p:blipFill>
            <a:blip r:embed="rId2"/>
            <a:stretch/>
          </p:blipFill>
          <p:spPr>
            <a:xfrm>
              <a:off x="755640" y="5013720"/>
              <a:ext cx="1337400" cy="150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Cloud Callout 10"/>
            <p:cNvSpPr/>
            <p:nvPr/>
          </p:nvSpPr>
          <p:spPr>
            <a:xfrm>
              <a:off x="1115640" y="2133720"/>
              <a:ext cx="6912360" cy="3600000"/>
            </a:xfrm>
            <a:prstGeom prst="cloudCallout">
              <a:avLst>
                <a:gd name="adj1" fmla="val -32879"/>
                <a:gd name="adj2" fmla="val 59259"/>
              </a:avLst>
            </a:prstGeom>
            <a:solidFill>
              <a:srgbClr val="ff7c80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800" spc="-1" strike="noStrike">
                  <a:solidFill>
                    <a:srgbClr val="000000"/>
                  </a:solidFill>
                  <a:latin typeface="Calibri"/>
                </a:rPr>
                <a:t>挑戰題：</a:t>
              </a:r>
              <a:r>
                <a:rPr b="1" lang="zh-TW" sz="3800" spc="-1" strike="noStrike">
                  <a:solidFill>
                    <a:srgbClr val="ffffff"/>
                  </a:solidFill>
                  <a:latin typeface="Calibri"/>
                </a:rPr>
                <a:t>但是</a:t>
              </a:r>
              <a:r>
                <a:rPr b="1" lang="en-US" sz="3800" spc="-1" strike="noStrike">
                  <a:solidFill>
                    <a:srgbClr val="ffffff"/>
                  </a:solidFill>
                  <a:latin typeface="Calibri"/>
                </a:rPr>
                <a:t>……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800" spc="-1" strike="noStrike">
                  <a:solidFill>
                    <a:srgbClr val="ffffff"/>
                  </a:solidFill>
                  <a:latin typeface="Calibri"/>
                </a:rPr>
                <a:t>玻璃幕牆不是能善用自然光，是環保建築的主要建材嗎？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3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Calibri"/>
              </a:rPr>
              <a:t>港人用電習慣所持的態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從資料可見港人的用電模式如何？請加以解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資料一：公眾對香港的電力供應的意見調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3851280" y="5950080"/>
            <a:ext cx="4608360" cy="576000"/>
            <a:chOff x="3851280" y="5950080"/>
            <a:chExt cx="4608360" cy="576000"/>
          </a:xfrm>
        </p:grpSpPr>
        <p:pic>
          <p:nvPicPr>
            <p:cNvPr id="164" name="Picture 2" descr=""/>
            <p:cNvPicPr/>
            <p:nvPr/>
          </p:nvPicPr>
          <p:blipFill>
            <a:blip r:embed="rId1"/>
            <a:srcRect l="4897" t="68312" r="71012" b="-1667"/>
            <a:stretch/>
          </p:blipFill>
          <p:spPr>
            <a:xfrm>
              <a:off x="3851280" y="6089760"/>
              <a:ext cx="1029960" cy="43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"/>
            <p:cNvPicPr/>
            <p:nvPr/>
          </p:nvPicPr>
          <p:blipFill>
            <a:blip r:embed="rId2"/>
            <a:stretch/>
          </p:blipFill>
          <p:spPr>
            <a:xfrm>
              <a:off x="5043960" y="6032160"/>
              <a:ext cx="155916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" descr=""/>
            <p:cNvPicPr/>
            <p:nvPr/>
          </p:nvPicPr>
          <p:blipFill>
            <a:blip r:embed="rId3"/>
            <a:stretch/>
          </p:blipFill>
          <p:spPr>
            <a:xfrm>
              <a:off x="6562440" y="5950080"/>
              <a:ext cx="189720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8"/>
          <p:cNvGrpSpPr/>
          <p:nvPr/>
        </p:nvGrpSpPr>
        <p:grpSpPr>
          <a:xfrm>
            <a:off x="900000" y="1771560"/>
            <a:ext cx="7201080" cy="4258440"/>
            <a:chOff x="900000" y="1771560"/>
            <a:chExt cx="7201080" cy="4258440"/>
          </a:xfrm>
        </p:grpSpPr>
        <p:pic>
          <p:nvPicPr>
            <p:cNvPr id="168" name="Picture 2" descr=""/>
            <p:cNvPicPr/>
            <p:nvPr/>
          </p:nvPicPr>
          <p:blipFill>
            <a:blip r:embed="rId4"/>
            <a:srcRect l="4212" t="17748" r="1576" b="35227"/>
            <a:stretch/>
          </p:blipFill>
          <p:spPr>
            <a:xfrm>
              <a:off x="1259640" y="1771560"/>
              <a:ext cx="6841440" cy="4170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69" name="TextBox 8"/>
            <p:cNvSpPr/>
            <p:nvPr/>
          </p:nvSpPr>
          <p:spPr>
            <a:xfrm>
              <a:off x="900000" y="1983240"/>
              <a:ext cx="2959560" cy="6426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為了令生活舒適，不介意多用些耗電量較高的電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0"/>
            <p:cNvSpPr/>
            <p:nvPr/>
          </p:nvSpPr>
          <p:spPr>
            <a:xfrm>
              <a:off x="900000" y="2832840"/>
              <a:ext cx="2959560" cy="749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不會計較用電量及電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1"/>
            <p:cNvSpPr/>
            <p:nvPr/>
          </p:nvSpPr>
          <p:spPr>
            <a:xfrm>
              <a:off x="900000" y="3681000"/>
              <a:ext cx="2959560" cy="7185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買電器時，為節省電費而選購一些耗電量較低的型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2"/>
            <p:cNvSpPr/>
            <p:nvPr/>
          </p:nvSpPr>
          <p:spPr>
            <a:xfrm>
              <a:off x="900000" y="4528800"/>
              <a:ext cx="2959560" cy="1054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發現電費增加時，會小心留意用電情況及盡量減少用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3"/>
            <p:cNvSpPr/>
            <p:nvPr/>
          </p:nvSpPr>
          <p:spPr>
            <a:xfrm>
              <a:off x="5015520" y="5661720"/>
              <a:ext cx="137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800" spc="-1" strike="noStrike">
                  <a:solidFill>
                    <a:srgbClr val="000000"/>
                  </a:solidFill>
                  <a:latin typeface="Calibri"/>
                </a:rPr>
                <a:t>百分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4"/>
            <p:cNvSpPr/>
            <p:nvPr/>
          </p:nvSpPr>
          <p:spPr>
            <a:xfrm>
              <a:off x="4149360" y="2125080"/>
              <a:ext cx="72108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7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5"/>
            <p:cNvSpPr/>
            <p:nvPr/>
          </p:nvSpPr>
          <p:spPr>
            <a:xfrm>
              <a:off x="4004640" y="2973240"/>
              <a:ext cx="72252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3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6"/>
            <p:cNvSpPr/>
            <p:nvPr/>
          </p:nvSpPr>
          <p:spPr>
            <a:xfrm>
              <a:off x="4221000" y="3892680"/>
              <a:ext cx="72252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7"/>
            <p:cNvSpPr/>
            <p:nvPr/>
          </p:nvSpPr>
          <p:spPr>
            <a:xfrm>
              <a:off x="3933000" y="4740840"/>
              <a:ext cx="721080" cy="3682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1.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18"/>
            <p:cNvSpPr/>
            <p:nvPr/>
          </p:nvSpPr>
          <p:spPr>
            <a:xfrm>
              <a:off x="5665320" y="212508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5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9"/>
            <p:cNvSpPr/>
            <p:nvPr/>
          </p:nvSpPr>
          <p:spPr>
            <a:xfrm>
              <a:off x="5522040" y="2973240"/>
              <a:ext cx="72108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2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0"/>
            <p:cNvSpPr/>
            <p:nvPr/>
          </p:nvSpPr>
          <p:spPr>
            <a:xfrm>
              <a:off x="5448600" y="389268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5232240" y="4740840"/>
              <a:ext cx="722520" cy="36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2"/>
            <p:cNvSpPr/>
            <p:nvPr/>
          </p:nvSpPr>
          <p:spPr>
            <a:xfrm>
              <a:off x="7182720" y="2125080"/>
              <a:ext cx="577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24"/>
            <p:cNvSpPr/>
            <p:nvPr/>
          </p:nvSpPr>
          <p:spPr>
            <a:xfrm>
              <a:off x="7037640" y="2973240"/>
              <a:ext cx="722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4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25"/>
            <p:cNvSpPr/>
            <p:nvPr/>
          </p:nvSpPr>
          <p:spPr>
            <a:xfrm>
              <a:off x="6821280" y="3892680"/>
              <a:ext cx="722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3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26"/>
            <p:cNvSpPr/>
            <p:nvPr/>
          </p:nvSpPr>
          <p:spPr>
            <a:xfrm>
              <a:off x="6749640" y="4740840"/>
              <a:ext cx="721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4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Oval 27"/>
          <p:cNvSpPr/>
          <p:nvPr/>
        </p:nvSpPr>
        <p:spPr>
          <a:xfrm>
            <a:off x="0" y="2205000"/>
            <a:ext cx="9144000" cy="330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反映市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1.</a:t>
            </a: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重視方便多於環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2.</a:t>
            </a:r>
            <a:r>
              <a:rPr b="1" lang="zh-TW" sz="5400" spc="-1" strike="noStrike">
                <a:solidFill>
                  <a:srgbClr val="ffff00"/>
                </a:solidFill>
                <a:latin typeface="Calibri"/>
              </a:rPr>
              <a:t>節能意識薄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755640" y="6165720"/>
            <a:ext cx="734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000000"/>
                </a:solidFill>
                <a:latin typeface="Calibri"/>
              </a:rPr>
              <a:t>資料來源：政府統計處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8D9-E05C-400B-9DEA-524208037FD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小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027160" y="1989000"/>
            <a:ext cx="11559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經濟考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458800" y="3789360"/>
            <a:ext cx="115596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活習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37960" y="2924280"/>
            <a:ext cx="1400040" cy="581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光污染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061600" y="1844640"/>
            <a:ext cx="14000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技術欠普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5421960" y="3860640"/>
            <a:ext cx="14000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欠法例監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0"/>
          <p:cNvSpPr/>
          <p:nvPr/>
        </p:nvSpPr>
        <p:spPr>
          <a:xfrm>
            <a:off x="2604960" y="2573280"/>
            <a:ext cx="1933560" cy="351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2"/>
          <p:cNvSpPr/>
          <p:nvPr/>
        </p:nvSpPr>
        <p:spPr>
          <a:xfrm flipH="1">
            <a:off x="4538520" y="2428920"/>
            <a:ext cx="1222560" cy="495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4"/>
          <p:cNvSpPr/>
          <p:nvPr/>
        </p:nvSpPr>
        <p:spPr>
          <a:xfrm>
            <a:off x="4538520" y="3510000"/>
            <a:ext cx="1582920" cy="350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6"/>
          <p:cNvSpPr/>
          <p:nvPr/>
        </p:nvSpPr>
        <p:spPr>
          <a:xfrm flipV="1">
            <a:off x="3036960" y="3510000"/>
            <a:ext cx="1501560" cy="279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852480" y="1197000"/>
            <a:ext cx="6685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旅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1355400" y="4797360"/>
            <a:ext cx="66852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浪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1317600" y="5805360"/>
            <a:ext cx="140004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欠環保意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7632000" y="1413000"/>
            <a:ext cx="9122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欠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7355520" y="5013360"/>
            <a:ext cx="115596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個人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5832000" y="5516640"/>
            <a:ext cx="91224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缺自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7"/>
          <p:cNvSpPr/>
          <p:nvPr/>
        </p:nvSpPr>
        <p:spPr>
          <a:xfrm>
            <a:off x="1185840" y="1781280"/>
            <a:ext cx="506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9"/>
          <p:cNvSpPr/>
          <p:nvPr/>
        </p:nvSpPr>
        <p:spPr>
          <a:xfrm flipH="1">
            <a:off x="2017440" y="4373640"/>
            <a:ext cx="1019160" cy="143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32"/>
          <p:cNvSpPr/>
          <p:nvPr/>
        </p:nvSpPr>
        <p:spPr>
          <a:xfrm flipV="1">
            <a:off x="1690560" y="4373280"/>
            <a:ext cx="1346400" cy="42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34"/>
          <p:cNvSpPr/>
          <p:nvPr/>
        </p:nvSpPr>
        <p:spPr>
          <a:xfrm flipH="1">
            <a:off x="6879960" y="1704960"/>
            <a:ext cx="500040" cy="43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36"/>
          <p:cNvSpPr/>
          <p:nvPr/>
        </p:nvSpPr>
        <p:spPr>
          <a:xfrm>
            <a:off x="6121440" y="4444920"/>
            <a:ext cx="1812960" cy="56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38"/>
          <p:cNvSpPr/>
          <p:nvPr/>
        </p:nvSpPr>
        <p:spPr>
          <a:xfrm>
            <a:off x="6122880" y="4444920"/>
            <a:ext cx="165240" cy="1071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14080" y="2852640"/>
            <a:ext cx="115596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國際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8"/>
          <p:cNvSpPr/>
          <p:nvPr/>
        </p:nvSpPr>
        <p:spPr>
          <a:xfrm flipV="1">
            <a:off x="1092240" y="2280960"/>
            <a:ext cx="60012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3BD5-76E6-4C4D-B4B3-B4265E9EC32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942320" cy="765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如何測量光污染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8000" y="11970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儀器：夜空光度測量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量度夜空光度的國際單位：「等每平方角秒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數字愈小代表夜空愈光亮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單位之差相等於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倍光度差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unihedron.com/projects/darksky/sqmback.jpg"/>
          <p:cNvPicPr/>
          <p:nvPr/>
        </p:nvPicPr>
        <p:blipFill>
          <a:blip r:embed="rId1"/>
          <a:stretch/>
        </p:blipFill>
        <p:spPr>
          <a:xfrm>
            <a:off x="324000" y="3789360"/>
            <a:ext cx="333828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20840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4788000" y="3213000"/>
            <a:ext cx="3313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好處：簡單易用，攜帶方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4265-F444-465B-9098-D1687389510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香港光污問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8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年：香港大學統計，市區夜空的平均光度比郊區最暗的夜空光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倍，最嚴重更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651640" y="4437000"/>
            <a:ext cx="3492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由美國太空總署國際太空站拍攝的香港及鄰近珠江三角洲夜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6480" y="1768320"/>
            <a:ext cx="5486400" cy="231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451480" y="1916280"/>
            <a:ext cx="36925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179280" y="3878280"/>
            <a:ext cx="2664000" cy="2979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http://www.stnn.cc:82/gate/big5/news.stnn.cc/hongkong/201006/W020100617299966241045.jpg"/>
          <p:cNvPicPr/>
          <p:nvPr/>
        </p:nvPicPr>
        <p:blipFill>
          <a:blip r:embed="rId4"/>
          <a:stretch/>
        </p:blipFill>
        <p:spPr>
          <a:xfrm>
            <a:off x="2843280" y="3913200"/>
            <a:ext cx="2338200" cy="294480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0" y="3933720"/>
            <a:ext cx="9144000" cy="165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既然影響嚴重，為何香港光污問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嚴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現在從香港光污染的情況分析其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39640" y="2781360"/>
            <a:ext cx="8136000" cy="703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9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年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8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年的光滋擾投訴增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6A92-0176-4363-BFF3-08F215D81A0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年香港夜空光度分佈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42920" y="2108160"/>
            <a:ext cx="7129440" cy="4749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0" y="549360"/>
            <a:ext cx="889776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年光污染出現在商業區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年的情況有何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會出現這個問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9640" y="1044720"/>
            <a:ext cx="2232000" cy="581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移入新市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645080" y="1547640"/>
            <a:ext cx="143964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都市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6948360" y="5661000"/>
            <a:ext cx="18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5651640" y="4292640"/>
            <a:ext cx="11523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油尖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3708360" y="5229360"/>
            <a:ext cx="865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中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148360" y="6021360"/>
            <a:ext cx="863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南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076720" y="2133720"/>
            <a:ext cx="8654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粉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979640" y="2565360"/>
            <a:ext cx="115236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天水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492360" y="3933720"/>
            <a:ext cx="8654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荃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372360" y="4941720"/>
            <a:ext cx="122400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將軍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1835280" y="4149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屯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3564000" y="3141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元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564000" y="2133720"/>
            <a:ext cx="863640" cy="4597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上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1332000" y="5084640"/>
            <a:ext cx="8636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東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50E-D16F-49D7-A6B6-9FD1B1DBE6E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620640"/>
            <a:ext cx="9144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片段觀賞（片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:58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）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中環有鬼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上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段短片諷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些通宵照明是必需的嗎？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68360" y="0"/>
            <a:ext cx="8229600" cy="620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通宵照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>
            <a:hlinkClick r:id="rId1"/>
          </p:cNvPr>
          <p:cNvPicPr/>
          <p:nvPr/>
        </p:nvPicPr>
        <p:blipFill>
          <a:blip r:embed="rId2"/>
          <a:srcRect l="1260" t="2089" r="595" b="8439"/>
          <a:stretch/>
        </p:blipFill>
        <p:spPr>
          <a:xfrm>
            <a:off x="1763640" y="2421000"/>
            <a:ext cx="5545080" cy="3767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79280" y="6165720"/>
            <a:ext cx="849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foe.org.hk/welcome/gettc.asp?language=tc&amp;id_path=1,%207,%2026,%202453,%203672,%203673,%2039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C7A3-5737-44BB-B772-CE9E2477AA8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通宵照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836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為甚麼會有這個問題？這反映港人哪方面的價值觀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353440" cy="2539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orientaldaily.on.cc/cnt/news/20120603/photo/0603-00176-100b1.jpg"/>
          <p:cNvPicPr/>
          <p:nvPr/>
        </p:nvPicPr>
        <p:blipFill>
          <a:blip r:embed="rId2"/>
          <a:stretch/>
        </p:blipFill>
        <p:spPr>
          <a:xfrm>
            <a:off x="1476360" y="4005360"/>
            <a:ext cx="3313080" cy="2232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2"/>
          <p:cNvSpPr/>
          <p:nvPr/>
        </p:nvSpPr>
        <p:spPr>
          <a:xfrm>
            <a:off x="1619280" y="6165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銅鑼灣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ver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5364000" y="6165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中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0" y="1773360"/>
            <a:ext cx="104292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0" y="5661000"/>
            <a:ext cx="16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商業機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www.foe.org.hk/uploaded_files/17052008/17052008pressphoto01thumb.jpg"/>
          <p:cNvPicPr/>
          <p:nvPr/>
        </p:nvPicPr>
        <p:blipFill>
          <a:blip r:embed="rId3"/>
          <a:srcRect l="2225" t="11878" r="0" b="0"/>
          <a:stretch/>
        </p:blipFill>
        <p:spPr>
          <a:xfrm>
            <a:off x="5292720" y="4076640"/>
            <a:ext cx="3160800" cy="2160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7"/>
          <p:cNvSpPr/>
          <p:nvPr/>
        </p:nvSpPr>
        <p:spPr>
          <a:xfrm>
            <a:off x="0" y="2276640"/>
            <a:ext cx="9144000" cy="2775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自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ffffff"/>
                </a:solidFill>
                <a:latin typeface="Calibri"/>
              </a:rPr>
              <a:t>欠缺環保意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77DA-F21B-4C12-A2C7-984E2896066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6151680" y="4572000"/>
            <a:ext cx="3065400" cy="1816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過量照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692280"/>
            <a:ext cx="876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些照明有何作用，是必需的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這反映了港人哪些生活習慣？這些生活習慣建基於何種心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ts1.mm.bing.net/images/thumbnail.aspx?q=4789400369562288&amp;id=3ae66e7d46e32961477e9f9e2f9a4029"/>
          <p:cNvPicPr/>
          <p:nvPr/>
        </p:nvPicPr>
        <p:blipFill>
          <a:blip r:embed="rId2"/>
          <a:srcRect l="0" t="2863" r="-290" b="17103"/>
          <a:stretch/>
        </p:blipFill>
        <p:spPr>
          <a:xfrm>
            <a:off x="743040" y="2349360"/>
            <a:ext cx="3828960" cy="201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g.agoda.net/hotelimages/241/241116/241116_1011261423003317416_STD.jpg"/>
          <p:cNvPicPr/>
          <p:nvPr/>
        </p:nvPicPr>
        <p:blipFill>
          <a:blip r:embed="rId3"/>
          <a:srcRect l="0" t="0" r="896" b="5259"/>
          <a:stretch/>
        </p:blipFill>
        <p:spPr>
          <a:xfrm>
            <a:off x="4716360" y="1916280"/>
            <a:ext cx="3400560" cy="2447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img.agoda.net/hotelimages/241/241116/241116_1011261423003317410_STD.jpg"/>
          <p:cNvPicPr/>
          <p:nvPr/>
        </p:nvPicPr>
        <p:blipFill>
          <a:blip r:embed="rId4"/>
          <a:srcRect l="0" t="0" r="1962" b="17626"/>
          <a:stretch/>
        </p:blipFill>
        <p:spPr>
          <a:xfrm>
            <a:off x="0" y="4470480"/>
            <a:ext cx="3132000" cy="198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www.epochtimes.com/i6/610130808471497.jpg"/>
          <p:cNvPicPr/>
          <p:nvPr/>
        </p:nvPicPr>
        <p:blipFill>
          <a:blip r:embed="rId5"/>
          <a:stretch/>
        </p:blipFill>
        <p:spPr>
          <a:xfrm>
            <a:off x="3191040" y="4508640"/>
            <a:ext cx="303660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1"/>
          <p:cNvSpPr/>
          <p:nvPr/>
        </p:nvSpPr>
        <p:spPr>
          <a:xfrm>
            <a:off x="0" y="2349360"/>
            <a:ext cx="9144000" cy="411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經濟考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重視方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Calibri"/>
              </a:rPr>
              <a:t>欠缺環保意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A32E-EA6A-4D54-928E-8AEC43113F1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Placeholder 4"/>
          <p:cNvSpPr/>
          <p:nvPr/>
        </p:nvSpPr>
        <p:spPr>
          <a:xfrm>
            <a:off x="5076720" y="1413000"/>
            <a:ext cx="4067280" cy="48243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考考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5148360" cy="61776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這路燈的設計有何問題？為甚麼？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5003640" cy="449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76720" y="907560"/>
            <a:ext cx="4067280" cy="569880"/>
          </a:xfrm>
          <a:prstGeom prst="rect">
            <a:avLst/>
          </a:prstGeom>
          <a:solidFill>
            <a:srgbClr val="000000"/>
          </a:solidFill>
          <a:ln w="76320">
            <a:solidFill>
              <a:srgbClr val="b7dee8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Calibri"/>
              </a:rPr>
              <a:t>怎樣才是正確的設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Incorrectly installed fully shielded luminaire"/>
          <p:cNvPicPr/>
          <p:nvPr/>
        </p:nvPicPr>
        <p:blipFill>
          <a:blip r:embed="rId1"/>
          <a:stretch/>
        </p:blipFill>
        <p:spPr>
          <a:xfrm>
            <a:off x="2771640" y="1557360"/>
            <a:ext cx="2232000" cy="4319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2"/>
          <a:srcRect l="0" t="0" r="13265" b="69029"/>
          <a:stretch/>
        </p:blipFill>
        <p:spPr>
          <a:xfrm>
            <a:off x="5076720" y="3789360"/>
            <a:ext cx="4067280" cy="16606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7596360" y="1484280"/>
            <a:ext cx="8632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正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the-sun.on.cc/channels/news/20080826/img/sn14082607_big.jpg"/>
          <p:cNvPicPr/>
          <p:nvPr/>
        </p:nvPicPr>
        <p:blipFill>
          <a:blip r:embed="rId3"/>
          <a:stretch/>
        </p:blipFill>
        <p:spPr>
          <a:xfrm>
            <a:off x="0" y="1557360"/>
            <a:ext cx="2739960" cy="4248000"/>
          </a:xfrm>
          <a:prstGeom prst="rect">
            <a:avLst/>
          </a:prstGeom>
          <a:ln w="0">
            <a:noFill/>
          </a:ln>
        </p:spPr>
      </p:pic>
      <p:sp>
        <p:nvSpPr>
          <p:cNvPr id="127" name="Title 1"/>
          <p:cNvSpPr/>
          <p:nvPr/>
        </p:nvSpPr>
        <p:spPr>
          <a:xfrm>
            <a:off x="539640" y="0"/>
            <a:ext cx="8229600" cy="76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戶外照明的錯誤設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435640" y="1484280"/>
            <a:ext cx="122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錯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4"/>
          <a:srcRect l="5395" t="25556" r="4029" b="5501"/>
          <a:stretch/>
        </p:blipFill>
        <p:spPr>
          <a:xfrm>
            <a:off x="3492360" y="5214960"/>
            <a:ext cx="5651640" cy="1309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5"/>
          <a:srcRect l="1018" t="66289" r="30648" b="4861"/>
          <a:stretch/>
        </p:blipFill>
        <p:spPr>
          <a:xfrm>
            <a:off x="5076720" y="1844640"/>
            <a:ext cx="4067280" cy="1944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8"/>
          <p:cNvSpPr/>
          <p:nvPr/>
        </p:nvSpPr>
        <p:spPr>
          <a:xfrm>
            <a:off x="7128000" y="1916280"/>
            <a:ext cx="2016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加設燈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7128000" y="4869000"/>
            <a:ext cx="2016000" cy="581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調節角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6"/>
          <p:cNvSpPr/>
          <p:nvPr/>
        </p:nvSpPr>
        <p:spPr>
          <a:xfrm>
            <a:off x="2771640" y="1628640"/>
            <a:ext cx="720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0"/>
          <p:cNvSpPr/>
          <p:nvPr/>
        </p:nvSpPr>
        <p:spPr>
          <a:xfrm>
            <a:off x="1979640" y="1628640"/>
            <a:ext cx="72072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6516720" y="1979640"/>
            <a:ext cx="57636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2916360" y="6084720"/>
            <a:ext cx="576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圖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6D1F-0032-4BDC-92C3-94DA56E9061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661240" cy="836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戶外照明的錯誤設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07920"/>
            <a:ext cx="878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片段指，除了加設燈罩外，在安裝電燈時，還需注意甚麼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恰當的安裝有甚麼作用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11280" y="609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alibri"/>
              </a:rPr>
              <a:t>資料來源：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ApbsV6vsguc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265800" cy="381636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BC03-BE3A-49E7-82AC-2DD9D42C858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8:47:45Z</dcterms:created>
  <dc:creator>HKIEd</dc:creator>
  <dc:description/>
  <dc:language>en-US</dc:language>
  <cp:lastModifiedBy>HKIEd</cp:lastModifiedBy>
  <dcterms:modified xsi:type="dcterms:W3CDTF">2013-05-13T12:40:26Z</dcterms:modified>
  <cp:revision>8</cp:revision>
  <dc:subject/>
  <dc:title>課節二</dc:title>
</cp:coreProperties>
</file>